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AEC-F0D5-4988-918A-E0755DF6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1CA-7B39-48AE-B6C7-107EA82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8C24B-5007-4DEB-A88E-9A79D2F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8EA3B-7F3A-475C-AF04-988E57BA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4D6E9-B6C2-48AC-847E-DA3C1921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A92F6-7B57-429A-B7B2-F21BB95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45ABB-490D-43B7-B227-95A10D2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5292E-71DF-498A-A07F-2CE07E9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71B3-4746-453F-9B85-AAE1C86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99307-A994-46CD-A47B-71C7CB2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6D0E5-9A37-4448-8BE9-606CF291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AF164-2DB4-4038-8F42-29DED3EB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87D-C869-4FA1-AB46-40EE143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0DD2E-72F1-4003-9B40-9D15C1C8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A1768-639B-4961-B891-422B5E6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70A5B-895D-4185-92D9-1A78F1B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D1A98-3E2E-4922-89AC-6E7BF48F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209B-B2E1-4178-ACFC-42F1B1E8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C4BAC-4F6C-4171-BEC3-E456587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FBFA5-697A-41F6-8E2F-E9376931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A0E76-C390-4317-8D13-F8954B1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204C3-6A01-4DA3-AE50-88F6BF3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34348-F3E3-4881-A156-AEAC649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F9B-7A07-4117-BACF-75ACCBA2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DC794-14D4-4F7A-9E19-1EA8E27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6D6E3-B67F-4FAC-9FF9-15E2C3B0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71BEA-DE13-4D45-93D3-F888E316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5B862-42E5-47DE-AA19-E24DD1B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EDE07-17FF-43C7-881F-FC450FF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1A82C-F3E3-49FB-BB96-7FEF25FC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6E02E-69E4-46D6-B1F4-10A78CA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819D8-FC4C-41BF-9E6A-5C1D00A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F091-A24F-4776-8D2F-F9422BF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12A6-DE19-4A01-AAC4-5430646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CF2-3E2B-4A5B-BC11-9B29D21A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5893F-067A-4CF2-B70E-6F99B9DF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FB724-E234-40B2-9244-D0C4AB8B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BFA4-866C-41A3-B157-FBB1958A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1FA37-2C54-419F-A68D-0876E3E7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1C2E7-A1C8-4397-9A51-0A434E2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852B0-0CE8-4257-A7B1-34C83D0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D63B0-DB11-4986-B95F-4750748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9F55C-3BEE-440B-BF08-12B373A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4F1D9-F616-4B41-9186-DA734A8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F96FB-D26D-4686-ACB7-D579311A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2F02-E9C3-4952-9655-16E03A9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0C1D-0765-49CE-B83B-42FF719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14563-5807-4B66-B667-6E4E251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AF8F-C762-4247-A732-A7EB77A6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C2A60-877E-4C71-859F-EF709696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DB5EE-1962-4A9B-82CD-59E263FC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82A99-4A22-42B8-992A-A3C147CB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1187A-BB17-49BF-8CEE-11193E89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F7597-12F7-44ED-B1E3-E82C9743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E0D6F-CBC1-426B-BD25-D6856A0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079CF-EC1D-4CF0-BF37-D0C9533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BD06-AA00-4CB4-B961-495A7CA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63751-5324-427D-BA5B-1D99158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080B4-497E-454E-8ED9-C54094E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E398B-BE44-4B35-8D88-AFBA618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D8218-0407-4A6E-A9DD-C25EA0C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18F0B-1712-41D1-8AEA-41C919E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6A5E1-15FE-4500-8DAD-B1E94BC4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63C2F-D24A-42EA-9441-56365DAA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1F8EB-D498-4C55-8FF7-0891247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ED15F-5447-4DDF-A748-1A6DE96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475C7-55EC-45AC-BD51-97C6A2A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9EAC-B02A-4E9D-B72C-0043FB7C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B0142-D230-4276-8BD6-6B773E9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6FA4A-9D82-469E-ACC9-E451939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36792-5894-46BC-8C0C-60FAB9BE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5F331-0112-4720-9706-E8239F0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8BC2E-5E36-467F-9EFA-8EE9AD5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EF00B-A717-4831-8B22-931E1B8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AD85C-075F-4651-BB34-E64B0371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D95E2-EDEB-4E7A-883C-19F42DE8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3F3B-858D-4297-A8A1-C17A66E4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6A211-95AA-43AB-9D63-6847892B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2472-51CB-4FD2-B4F7-9CA00A79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BCE9A-5A69-4799-868B-BDC46A64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FA8F6-9331-41C6-AD5A-5CBA631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9CC6B-9734-445E-8B9B-522827A7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216E3-F420-4515-9719-A5E1F8BD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05DC1-4DB5-4998-BB14-7E29C588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FE89A-94AC-46BA-A49A-7EDE4E6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9EDDA-5876-4201-9A38-EC99C42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06572-C6AB-4126-BDCB-5FF5019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8D6CB-31A3-4F81-A767-292FD76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34661-AF55-4568-BD73-5EAF1A84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252-EAA3-47F1-AD32-A4607AFB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46FA5-BA1F-4F9E-BC8D-E91E53EF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8221D-388D-4F98-8FC8-51FBD8A8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2A390-BE00-47DF-9FD5-4CC8528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44D92-5CD6-4F35-AF85-CC7B86F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2E9A5-53AC-424B-9716-B80250F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42E92-A64E-455F-B836-950D948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B67A3-F6E0-40D4-B959-DBE120BC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86C9B-05AE-43D4-95E4-41FE109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384FA-2C64-4D0C-AD98-674EABC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574B0-7CA6-4AF7-B750-A77C293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E768-E5BA-4291-A995-2842705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120AE-E55D-43A3-8FA0-25F1085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24469-E492-45DE-A3F7-4B5915F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9FAE2-74F5-4113-AFCD-29DA7AAC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CFEAC-EE85-4EC4-90E3-4250010D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02793-A82B-499F-AE6F-5855E1A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ADC51-D8E2-411E-8B61-C24597D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0B32B-D089-4B15-AF90-BBCD67CB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4A670-58F8-4B65-83C5-96E3E39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7BCB8-8B56-4484-B006-0BEE0549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F771B-3733-4BCC-8920-FA6D0D1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46C-628C-4504-B609-DD708CD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65F-95BA-4B34-B5A7-4DF6DB3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7F3C4-BF3A-4E81-B626-4088CF2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4F35B-2314-43F7-A200-8E44DDE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01BF8-E68A-45AA-BC3A-21753B83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190FD-5D80-4964-9303-9A6FDCAE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52D1C-E1B1-48B4-A131-D75F8F16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6A02E-07B1-428F-A031-785D3188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6E013-A2DF-43D0-A177-16F11A49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E7FAE-8623-4504-A5D3-46CE8FF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A2B48-C81C-4FAD-BECD-32B96307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1133F-D814-4AA0-965F-9BCEA37F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15C-5586-4C3F-8260-1D7FEBB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EEA0C-9FDE-4A6A-8704-9D4DFE6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58EB3-7477-41ED-BE03-223C138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C76E8-9B13-4CAD-B026-6FD704C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21B4D-CDA9-4FE1-B79C-F4C5FE19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6AF8E-CE88-4212-B137-9A7C1E50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80C23-F78E-4B0F-B901-533CE381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05326-B1C4-43B6-A495-9559F78F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042CE-9B48-4114-B031-EA0378EF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5A858-5FE4-4228-B894-1E8C689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D8EE4-837F-4DF8-AB56-AED94F7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68A-FFB6-4DAE-897C-B7D78E5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7D291-B1C6-4C7C-AB60-39B5E3E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B556C-D9DC-4FCA-A701-4C0C355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D8BC6-0330-417F-9537-F2B26BDA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A468E-5171-48FF-B9ED-4E9E23B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064CF-7686-411E-A178-D315D79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9E500-B6CC-4DD7-8EAC-CE9FDCD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19AED-8ECE-4146-B9BE-BE48646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56A90-57E2-47DE-A627-3D459D1E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AF4CB-16FD-4580-B744-B013D42A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2589A-67D6-41D0-BF97-87F81B48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D19E-DBF3-4AA6-A076-3E799203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B5A07-38CC-46B2-8F7A-0777CC1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B0419-F613-4C9E-83B6-4459D60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1ADFE-9005-4A26-92BD-ADB8B70C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C27D4-DD51-4DDB-8C50-229B98F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AC882-C825-40D4-97AA-130A1F97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15C57-5659-4ECC-AE48-1C05A4B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A2EDB-BD23-4910-9F9F-A72BF9F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39786-7B80-4EC6-B525-F97D25A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301C3-8957-4075-B552-6F61DE5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A51AC-809D-429C-BA9C-C86E5E65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C46-3C30-488E-BC52-04314034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0A8AD-0289-4872-AA00-5020AFFE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436D2-05C6-4334-95F0-852BF57E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4D4C7-86C2-4662-B014-EC1778E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CD8FA6-DDD2-44C0-A9D1-A77BE82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43C2F-8D1E-4BE5-914B-E9EA410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9F903-8977-4888-8896-2F0A44B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2CCF3-B6E5-435C-8A33-DAC417D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34E8F-84A9-422C-BE1A-24CB928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0D115-88A4-4869-B7BD-0801481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64D3F-C2A7-4F7D-80F4-BD096C9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DCF4-D496-4FF5-AAFF-C7814E69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3D643-AFFD-4C45-BCE0-2F2D021F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636D5-80D1-4A22-A043-3D717843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E3D16-C1A2-42AD-9A00-50AB20A5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177D0-04F8-4294-AD90-46A2D9A1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8BD6C4-264D-417F-9D94-D74F52B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367D4-B212-4DDB-8F16-93B0E1B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173A0-B458-40B6-8D66-528660E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81C7B-A8FB-4F3A-8EE3-DCE69C1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5FFDA-191A-4EEA-B3A7-46DC9BD3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31BA5-BFFC-43AE-9760-CC39EE2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64BD-BB67-4FD1-9577-6614C1A5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94604-A655-47DE-B327-9D9B4B5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F9AB8-9123-4D80-8995-F2CA1DB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6B95A8-3310-4C29-BE79-15072E1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B0A6C-FB3A-4192-9EF0-4BC3EC27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F7B6A-5CF9-43E5-8A4A-4E76DA51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50355-C84F-4C73-BD69-B8E6CF02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309A70-4702-4D8B-834F-6AB016C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4261F-5BDF-4805-83D7-DD65FDF3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965DE-1663-443B-9234-D1FFC02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BA5236-4CCE-4714-89F2-8718FC1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37DE-C2CE-48D5-80F8-331BC88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30BFC-4E7B-4BE9-9E7D-E498E20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4CAA8F-6281-430A-9279-995FF72B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6B9128-D18A-48C2-9F6A-3681ED2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D8C0C-1149-4DEE-A0D0-509F302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09E132-C3D6-427E-874B-EF74C52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A167D-F3C7-4BCD-8829-4D9B637C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48C41-DF7A-4539-9643-A25C7A33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D46579-A1FD-4C2D-BF6E-2B328562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FDB23-DDC6-4E60-8E9A-F71B29B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10753-9824-4E92-8896-B122F2B2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B690-279C-4FAC-9E25-8EE8639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B3AD55-271B-4414-9631-96815A0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F5E13C-B33B-49F0-B925-FA4A620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F7D32C-A4DA-44CA-8104-73EBD6ED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036F7-3E8D-4977-B711-FDFD858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B48CF-34BE-43B7-86C0-4CC8B0E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97BF15-86BB-4EBA-9203-EC70A08C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53F690-777A-48D8-9EEC-32DFB9B7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57E89-6883-4C46-BBB6-D94917A4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CE8D41-F99F-4340-A083-B527E2F1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46E7-573A-49B3-B6A0-B3C4A6C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5E8-4E43-4C6F-918B-96123CE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67E5-A8F0-4293-AC3C-198A194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10EF-556A-4A24-AF01-A06AE4D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17DC-F959-4091-83C7-BF5DFEC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13D1-8336-461B-B802-09C061F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A952-95B5-4827-BC9F-ABF74EC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0A36-6CAB-40B1-B8B0-36B4D0D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A591-4D5C-4C7B-A104-CD63F60D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1AB2-760C-46EC-936F-BF21879A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1F69-333F-4CAF-AA34-B11C547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D3B8-D3E4-4CE4-A8A6-F3B05BDC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2EA-BE37-4384-ACA2-0D3FFE0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5258-EA00-48D5-A9AE-BAFBB1E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7FE1-8E90-4774-A66A-A19DA0D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FE54-C171-4ED3-A1DB-066927DF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8C1D-9E65-4D6E-843C-667DB937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D7C6-F51C-497D-871F-E114545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4BAC-DABD-417D-8128-6A6BC29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AFEE-EA6B-4CBD-88DB-4E16D2EC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2668-5062-438A-A055-A98BE77A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CD02-7A5C-42BB-AAF4-B95D390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D043-C921-4D3C-84F6-DB620AB6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80A-1865-440C-A67F-5CE68A9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7055-1F90-4937-886F-66421D27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853A-9EB6-4F88-BAE8-DB5F6A1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C115A-AAD9-448B-8388-638C8338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55E7-8462-48B1-8129-EE92C5D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ADD7-AF8E-43C6-960E-4A21F00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139D-507B-4FCF-B594-60BBA01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2683-18CF-4F5E-BA0B-44EB847C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E3F3A-978A-4A54-B840-035C643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3EE1-813A-482A-A08D-0BF7DC67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0AC01-BCBD-47B5-BF3D-5C451620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92C-ECE0-4198-957E-C84EA4A6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E543-8824-4BB3-BE1B-1C866C6C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12BC-E54B-4789-85F6-4CB28256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13BA-20EA-40F2-AB65-1E922D4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2EB0-4E57-42F0-AEE1-6EC7FA0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A48E-BC5A-4D70-8680-91D883DF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FB301-EF06-4988-B99F-5B506035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76006-D9ED-4A01-A176-3A4CA3F1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7122-F0B0-4A26-AAF7-FE48AC35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BF9E-C56C-4400-9B3C-EFDC7BF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17D7-C87F-4B70-A83D-7AE3F12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A1D-001F-444D-8DB2-8E59D43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7D3C-78C1-49B1-B2AF-0E55F03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C1228-1B5D-45E5-974C-A88449DC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DFA5-5144-4F9A-800D-E6CD8E98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DC1E-74F0-4126-8967-148B3622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0460-09FB-49F0-A9BC-EFCD9CE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CFA82-EE68-4D8B-8AB5-4DFAC76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1EF50-639B-4D7E-A1D9-B1E2BE22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A638-204D-413A-A152-A7C5A61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2C6E-ED9F-4BA7-86FD-BC63DEA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1EC75-FD02-4488-A8FB-961FB41E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A0F-C3C3-483E-ACD0-BA61531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4D3B-A28D-49EB-A84F-C7AEE71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37BE-73A5-4E3A-9AA0-DC222E0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F191-D38B-4D3E-85AA-31D3772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3520-B88B-4014-9A15-23AE18DC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C89B-F6EB-4B38-9892-797FD7BA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9E70-E362-4FEF-A6E9-D2F03D87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D45A8-D497-421C-A5F5-FACA2E5D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0429-2D56-4560-88A9-4EB061EB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AF8DD-3F50-412B-8782-2AD6BF5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CA91C-093D-4B6D-A000-10E892D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AB8-4669-4007-9D39-B84F9A2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3BAE-5F36-4874-A045-CB2E40A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E9CC-D6F8-4F45-B7D5-79B514D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6632-4F12-401C-AC74-DE4083A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14CD-8B95-437C-888F-358069C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CA4B-9AA0-46BC-912D-6B1276AA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567E-1B0E-4495-AF48-EF75B19F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32AB-7CFF-444A-8D57-FD39903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27D9-D3FD-4222-9846-7B2F21DE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C32AE-6862-42E5-B867-87803FF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762BA-88C8-4DA0-ADC8-918DC97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00F-75A0-4871-A46E-F462E369FF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A643-6E3C-41F0-89E1-0E2BFCCC653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D829-C62F-43AD-A28C-36C49E0BA82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1EB5-9A5A-4C42-9EDB-D19268F025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C941-077B-4DF0-B3F6-66D36AA884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912-5E00-46C8-9743-855FB95F7F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0AA6-AC95-4851-914C-6500438B91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49F-6F03-4452-82EF-A6C41C9B5F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3EE-8448-46CD-93F7-7C5E4A1702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B784-C055-4483-8639-054F8C3E692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134-6BCB-4D19-B583-2B4F698ADE4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9E0C-488F-4560-B080-C35C49B7B80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770B-AB4B-495C-B360-5B6F397DE6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917-2D2C-4A8B-9743-EFAA325DCEB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136-7327-49BC-B537-483628748A3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868C-01A2-4091-BE73-82B3E93891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4F6-31D1-4E4B-9506-165281AF61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1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064-AD3E-41A6-AF81-EDA4F889DF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BD3-A9FD-4D62-84D3-5EEA11E58D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6C90-6CBB-4E72-8701-1B5F95F76DB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D113-D8FD-454C-B999-D261F66CC1C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F8F-F1B4-4DB1-A71B-2DE467510C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B683-89FD-4951-9731-21FCC86380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F28-E757-4D75-895F-3111D81B20B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</a:rPr>
              <a:t>暮江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4100"/>
          <p:cNvSpPr txBox="1"/>
          <p:nvPr/>
        </p:nvSpPr>
        <p:spPr>
          <a:xfrm>
            <a:off x="2971800" y="380880"/>
            <a:ext cx="2666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暮江吟</a:t>
            </a:r>
            <a:endParaRPr b="0" i="1" lang="en-US" sz="48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诗意体会古诗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尝试背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诗。要求：声音洪亮，吐字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桌赛读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不理解的字词或诗句设法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问同桌、查工具书、问老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8195"/>
          <p:cNvSpPr txBox="1"/>
          <p:nvPr/>
        </p:nvSpPr>
        <p:spPr>
          <a:xfrm>
            <a:off x="609480" y="4572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自学方法</a:t>
            </a:r>
            <a:endParaRPr b="0" i="1" lang="en-US" sz="6000" spc="-1" strike="noStrike" u="sng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道残阳铺水中，                半江瑟瑟半江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可怜九月初三夜，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露似真珠月似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量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划分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描写了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以下词意试着说说诗句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：傍晚       吟：歌咏            残阳：夕阳。 铺：铺展。    瑟瑟：形容江水的碧绿。    可怜：可爱。    似：好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助学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这首诗描绘了傍晚到夜晚深秋江边的景色，描绘了残阳铺水中，江水半江瑟瑟半江红，初三夜可怜，露似珍珠月似弓等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本诗运用了比喻的手法，把露珠比作珍珠，把月亮比作弓，创造出和谐宁静的意境。本诗表达了作者对大自然的喜悦热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用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写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7411"/>
          <p:cNvSpPr/>
          <p:nvPr/>
        </p:nvSpPr>
        <p:spPr>
          <a:xfrm flipV="1">
            <a:off x="2514600" y="3276360"/>
            <a:ext cx="358128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7" name="直接连接符 17412"/>
          <p:cNvSpPr/>
          <p:nvPr/>
        </p:nvSpPr>
        <p:spPr>
          <a:xfrm>
            <a:off x="2666880" y="4114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8" name="直接连接符 17413"/>
          <p:cNvSpPr/>
          <p:nvPr/>
        </p:nvSpPr>
        <p:spPr>
          <a:xfrm>
            <a:off x="25909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9" name="直接连接符 17414"/>
          <p:cNvSpPr/>
          <p:nvPr/>
        </p:nvSpPr>
        <p:spPr>
          <a:xfrm flipV="1">
            <a:off x="2590920" y="4876560"/>
            <a:ext cx="373356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0" name="直接连接符 17415"/>
          <p:cNvSpPr/>
          <p:nvPr/>
        </p:nvSpPr>
        <p:spPr>
          <a:xfrm flipV="1">
            <a:off x="2590920" y="5638680"/>
            <a:ext cx="38862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测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（      ）代诗人（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在这首诗中，诗人 选取（        ）西落到（          ）东升时江上的景色，用生动形象的描写来表达自己（        ）的心情。题目的意思是（              ）。这首诗运用了（           ）的手法，把（           ）比作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把（          ）比作（       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41Z</dcterms:created>
  <dc:creator/>
  <dc:description/>
  <dc:language>en-US</dc:language>
  <cp:lastModifiedBy>万润仪器贸易公司</cp:lastModifiedBy>
  <dcterms:modified xsi:type="dcterms:W3CDTF">2020-08-24T03:31:5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